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79B-109B-438F-B4AE-DA58B5F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BD5-28A6-49C2-AB9E-16CD4C86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A9B-B641-4E86-AEA1-5A75F378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3C3-4DCD-41BB-BC60-8AEE3039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81317-ADE0-4EB2-8CA3-8EC8D127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77F4D-D016-41A1-B335-52A0856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7854-34D0-4367-99F1-D7FD606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17E25-F931-4EC1-9FDE-D9EFED1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9CB15-8831-4AFF-8306-CA25C48F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E2BF4-0CC9-4D30-815B-09359BA6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C3E0-0A9E-40E5-86B0-C4E39A58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461-7CDE-41CC-B3A3-86ACB113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70A70-B877-4D40-A7CC-D27FC41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7C337-26FF-45DD-9C93-7D826460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C938C-B1F9-4194-90A6-5A77CC6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DB558-DE5E-49AC-A97B-F5ACC0E5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F4DA2-F587-4DB6-B05D-29007125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8AB-4F0A-4B88-9B02-9FB0F536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6D5-E1DD-4B44-ABB5-0EBBBA2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0F8-7692-46B7-B728-DA101889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22B-AF46-4647-A0BC-7DDF991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37E-6191-4675-9A0A-57F67D7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AAD-2E4F-4CA8-992D-DF466318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290-EA42-45C0-B919-BD6D456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789-CB3C-4C4F-8155-9F9261E6F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537-2D44-4F65-A621-CAC3B91B5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Genesis 24-2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895480" y="38088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-D View of 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246240"/>
            <a:ext cx="9144000" cy="6611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09480" y="3581280"/>
            <a:ext cx="1771920" cy="22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ram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24280" y="3886200"/>
            <a:ext cx="113832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ot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s “Good” – 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ter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ll of Man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ses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ture Plan: “Seed of woman” -3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Sin – 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d -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Nations – 10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l of Abram –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i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ing To All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m and Lot Separate 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m Rescues Lot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Covenant With Abram -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gar and Ishmael –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venant of Circumcision –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ors With Good News and Bad News 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of Sodom and Gomorrah 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 and Abimelech –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Isaac; Sending Ishmael Away 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’s Test of Loyalty 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of Sarah 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of Isaac and Rebekah 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and Keturah –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’s Death 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hmael’s Death –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3:54:03Z</dcterms:created>
  <dc:creator>Terry W. Benton</dc:creator>
  <dc:description/>
  <dc:language>en-US</dc:language>
  <cp:lastModifiedBy>Terry W. Benton</cp:lastModifiedBy>
  <dcterms:modified xsi:type="dcterms:W3CDTF">2004-08-25T16:04:18Z</dcterms:modified>
  <cp:revision>3</cp:revision>
  <dc:subject/>
  <dc:title>Genesis 24-25</dc:title>
</cp:coreProperties>
</file>